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505-E04F-4B29-AE90-F57B71C9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C11-A2C3-4A72-8D9E-25C15259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288-4D20-4FB8-A955-A79F9C08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B46-A9A0-4D0C-85F2-E53BF7C1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144-E411-47AE-B0D6-93B9C703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25B-0F2A-48BF-BC09-ED8A0C3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AF7-E21E-4CC4-9CF4-CEB63C7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E32-2A06-47EF-8578-0B683E6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855-E2CB-424D-A320-3063C3C1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4F7-8A00-4D7E-81EB-C2D2E02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F04-3687-46BE-A41D-DED6431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193-8287-4EFE-8C3F-5C7BE48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54D9-E0BE-478D-A3DC-D6F753B2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2"/>
          <a:stretch/>
        </p:blipFill>
        <p:spPr>
          <a:xfrm>
            <a:off x="353880" y="374760"/>
            <a:ext cx="8434440" cy="26762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3"/>
          <a:stretch/>
        </p:blipFill>
        <p:spPr>
          <a:xfrm>
            <a:off x="1328760" y="2505240"/>
            <a:ext cx="6486480" cy="2896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50179"/>
          <p:cNvSpPr/>
          <p:nvPr/>
        </p:nvSpPr>
        <p:spPr>
          <a:xfrm>
            <a:off x="457200" y="1289160"/>
            <a:ext cx="83818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na never eats breakfas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time does your best friend go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1295280"/>
            <a:ext cx="7467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hat time does Anna eat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14400" y="4114800"/>
            <a:ext cx="7162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She usually go to school at six fo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3" descr=""/>
          <p:cNvPicPr/>
          <p:nvPr/>
        </p:nvPicPr>
        <p:blipFill>
          <a:blip r:embed="rId2"/>
          <a:srcRect l="0" t="24867" r="19441" b="14099"/>
          <a:stretch/>
        </p:blipFill>
        <p:spPr>
          <a:xfrm>
            <a:off x="2432160" y="228600"/>
            <a:ext cx="3816360" cy="990720"/>
          </a:xfrm>
          <a:prstGeom prst="rect">
            <a:avLst/>
          </a:prstGeom>
          <a:ln w="0">
            <a:noFill/>
          </a:ln>
        </p:spPr>
      </p:pic>
      <p:sp>
        <p:nvSpPr>
          <p:cNvPr id="81" name="内容占位符 2"/>
          <p:cNvSpPr/>
          <p:nvPr/>
        </p:nvSpPr>
        <p:spPr>
          <a:xfrm>
            <a:off x="457200" y="1143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alk about something you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omething you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usually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o, someth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you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457200" y="3124080"/>
            <a:ext cx="7238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I always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usually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never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I always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usually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never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I always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usually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never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I always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usually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 I never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3-2"/>
          <p:cNvPicPr/>
          <p:nvPr/>
        </p:nvPicPr>
        <p:blipFill>
          <a:blip r:embed="rId3"/>
          <a:stretch/>
        </p:blipFill>
        <p:spPr>
          <a:xfrm>
            <a:off x="7010280" y="5526000"/>
            <a:ext cx="2057400" cy="13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2304" descr=""/>
          <p:cNvPicPr/>
          <p:nvPr/>
        </p:nvPicPr>
        <p:blipFill>
          <a:blip r:embed="rId2"/>
          <a:stretch/>
        </p:blipFill>
        <p:spPr>
          <a:xfrm>
            <a:off x="7345440" y="2209680"/>
            <a:ext cx="96048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303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302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1590840" cy="1047960"/>
          </a:xfrm>
          <a:prstGeom prst="rect">
            <a:avLst/>
          </a:prstGeom>
          <a:ln w="0">
            <a:noFill/>
          </a:ln>
        </p:spPr>
      </p:pic>
      <p:sp>
        <p:nvSpPr>
          <p:cNvPr id="87" name="椭圆 12301"/>
          <p:cNvSpPr/>
          <p:nvPr/>
        </p:nvSpPr>
        <p:spPr>
          <a:xfrm>
            <a:off x="263520" y="47304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80880" y="2403360"/>
            <a:ext cx="81536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990720" y="3049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Write about something you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lways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o, something you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o and something you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o.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62120" y="30020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 always go to school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62120" y="4068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 usually play the guitar at 6:00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62120" y="50734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 never watch TV on school day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300"/>
          <p:cNvSpPr/>
          <p:nvPr/>
        </p:nvSpPr>
        <p:spPr>
          <a:xfrm>
            <a:off x="230400" y="4572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1993" descr=""/>
          <p:cNvPicPr/>
          <p:nvPr/>
        </p:nvPicPr>
        <p:blipFill>
          <a:blip r:embed="rId2"/>
          <a:stretch/>
        </p:blipFill>
        <p:spPr>
          <a:xfrm>
            <a:off x="7315200" y="2819520"/>
            <a:ext cx="1523880" cy="1404720"/>
          </a:xfrm>
          <a:prstGeom prst="rect">
            <a:avLst/>
          </a:prstGeom>
          <a:ln w="0">
            <a:noFill/>
          </a:ln>
        </p:spPr>
      </p:pic>
      <p:sp>
        <p:nvSpPr>
          <p:cNvPr id="95" name="椭圆 41992"/>
          <p:cNvSpPr/>
          <p:nvPr/>
        </p:nvSpPr>
        <p:spPr>
          <a:xfrm>
            <a:off x="304920" y="114948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988"/>
          <p:cNvSpPr/>
          <p:nvPr/>
        </p:nvSpPr>
        <p:spPr>
          <a:xfrm>
            <a:off x="990720" y="95724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nterview three of your class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Find out what time they do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ctiv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1989"/>
          <p:cNvSpPr/>
          <p:nvPr/>
        </p:nvSpPr>
        <p:spPr>
          <a:xfrm>
            <a:off x="990720" y="2786040"/>
            <a:ext cx="72388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i, Jenny. What time do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 week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get up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ven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erci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exercise a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eigh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1991"/>
          <p:cNvSpPr/>
          <p:nvPr/>
        </p:nvSpPr>
        <p:spPr>
          <a:xfrm>
            <a:off x="328320" y="110952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1994"/>
          <p:cNvSpPr txBox="1"/>
          <p:nvPr/>
        </p:nvSpPr>
        <p:spPr>
          <a:xfrm>
            <a:off x="2895480" y="22860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Interview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33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4350"/>
          <p:cNvSpPr/>
          <p:nvPr/>
        </p:nvSpPr>
        <p:spPr>
          <a:xfrm>
            <a:off x="609480" y="1523880"/>
            <a:ext cx="83059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eat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nn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eat dinner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six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r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take a show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usually take a shower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nin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at time do yo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go to scho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838080" y="528480"/>
            <a:ext cx="7772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omplete what time they do these activ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2128680"/>
          <a:ext cx="8610480" cy="3592440"/>
        </p:xfrm>
        <a:graphic>
          <a:graphicData uri="http://schemas.openxmlformats.org/drawingml/2006/table">
            <a:tbl>
              <a:tblPr/>
              <a:tblGrid>
                <a:gridCol w="2770200"/>
                <a:gridCol w="2106720"/>
                <a:gridCol w="1581120"/>
                <a:gridCol w="21524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Jen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get 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xerc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at dinn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: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ake a sh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go to 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380880" y="144792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 our group, Jenny usually gets up late on weekends. She gets up at …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_____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0880" y="2057400"/>
            <a:ext cx="80773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even o’clock. She always exercises at eight o’clock. She usually eats dinner at six thir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0880" y="4419720"/>
            <a:ext cx="80773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he usually goes to school at seven thirty on school day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80880" y="3809880"/>
            <a:ext cx="8001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he usually takes a shower at nine o’clo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19320" y="5791320"/>
            <a:ext cx="6248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In our group, S1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   S2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 S3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矩形 20" descr=""/>
          <p:cNvPicPr/>
          <p:nvPr/>
        </p:nvPicPr>
        <p:blipFill>
          <a:blip r:embed="rId2"/>
          <a:srcRect l="8757" t="25520" r="25543" b="0"/>
          <a:stretch/>
        </p:blipFill>
        <p:spPr>
          <a:xfrm>
            <a:off x="380880" y="380880"/>
            <a:ext cx="259092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971800" y="501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Give a report to the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4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es you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end go to 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最好的（地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最高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My good friend is Jack, and he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ri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杰克是我的好朋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也是我的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106"/>
          <p:cNvSpPr txBox="1"/>
          <p:nvPr/>
        </p:nvSpPr>
        <p:spPr>
          <a:xfrm>
            <a:off x="1905120" y="30492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4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457200" y="6094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0028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ou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oup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组，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have six students in ou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小组里有六名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oup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boys are pla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otball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群男孩子正在踢足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7315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 you get up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school day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usually exercis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week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school d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上学日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weekends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周末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he boys play basketba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ay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and they play baseba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ek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191120" y="103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cc"/>
                </a:solidFill>
                <a:latin typeface="Times New Roman"/>
              </a:rPr>
              <a:t>问答做某事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685800" y="2286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Read the following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9" descr=""/>
          <p:cNvPicPr/>
          <p:nvPr/>
        </p:nvPicPr>
        <p:blipFill>
          <a:blip r:embed="rId2"/>
          <a:stretch/>
        </p:blipFill>
        <p:spPr>
          <a:xfrm>
            <a:off x="384120" y="1119240"/>
            <a:ext cx="3952800" cy="1284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85800" y="3733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usually get up at six thir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55560" y="301608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 you usually get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85800" y="4495680"/>
            <a:ext cx="61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 they get dres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5181480"/>
            <a:ext cx="80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always get dressed at seven twen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2280" y="1371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Fill in the blanks with the words in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457200" y="2995560"/>
            <a:ext cx="84582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o is your ____ frien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Jenny and Mary always play tennis on  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om can play guitar well in our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429000" y="3048120"/>
            <a:ext cx="1143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443088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ek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315200" y="518148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内容占位符 2"/>
          <p:cNvSpPr/>
          <p:nvPr/>
        </p:nvSpPr>
        <p:spPr>
          <a:xfrm>
            <a:off x="533520" y="2209680"/>
            <a:ext cx="807696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ver,  weekends,  dressed,  group,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0490"/>
          <p:cNvSpPr txBox="1"/>
          <p:nvPr/>
        </p:nvSpPr>
        <p:spPr>
          <a:xfrm>
            <a:off x="3002040" y="380880"/>
            <a:ext cx="3246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Exercises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bbe0e3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ob _____ eats ice-cream. He thinks it’s not health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is sister usually gets _______ at 6:00 in the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828800" y="167652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257800" y="30592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0"/>
          <p:cNvSpPr/>
          <p:nvPr/>
        </p:nvSpPr>
        <p:spPr>
          <a:xfrm>
            <a:off x="457200" y="1413000"/>
            <a:ext cx="8077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im eats breakfas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t seven o’cl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划线部分提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__ ____ Jim eat breakfas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Linda goes to work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t seven thir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划线部分提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_____ Linda go to work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990720" y="29718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at  time 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1440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en  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809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omple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7889"/>
          <p:cNvSpPr/>
          <p:nvPr/>
        </p:nvSpPr>
        <p:spPr>
          <a:xfrm>
            <a:off x="609480" y="774720"/>
            <a:ext cx="807732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ric doesn’t get up early on weekends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义句转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ic ____ __ ____ on week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Grace always exercises at six in the morning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否定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ce _____ exercises at six in the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7400" y="222084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gets  up 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362320" y="4419720"/>
            <a:ext cx="1447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09480" y="1011240"/>
            <a:ext cx="739152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上班从未迟到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弟弟总是在七点钟穿好衣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姑姑通常在周末八点钟锻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219320" y="1611360"/>
            <a:ext cx="579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e’s never late for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219320" y="3009960"/>
            <a:ext cx="6933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My brother always gets dressed at seven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219320" y="4915080"/>
            <a:ext cx="7315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My aunt usually exercises at 8:00 on week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304920"/>
            <a:ext cx="6019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ransla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8913"/>
          <p:cNvSpPr/>
          <p:nvPr/>
        </p:nvSpPr>
        <p:spPr>
          <a:xfrm>
            <a:off x="457200" y="457200"/>
            <a:ext cx="82296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上学的日子里，他总是七点吃早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他的小组里，杰克通常在十点钟洗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158840" y="1197000"/>
            <a:ext cx="77724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e always eats breakfast at 7:00 on school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914400" y="4651200"/>
            <a:ext cx="74674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Jack usually takes a shower at ten o’clock in his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"/>
          <p:cNvSpPr/>
          <p:nvPr/>
        </p:nvSpPr>
        <p:spPr>
          <a:xfrm>
            <a:off x="380880" y="1057320"/>
            <a:ext cx="846468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: Hi, Rick, What ____ do you get up?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: I usually get up __ five thirt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: Wow. I _____ get up so earl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: I like sports. I always _______ at five fif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: What time do you ________ breakfast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: At seven twenty. Then I _____ teeth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: _____ do you go to scho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: At seven forty. I never ___ for schoo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892680" y="1022400"/>
            <a:ext cx="12952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892680" y="1681200"/>
            <a:ext cx="8445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444760" y="2317680"/>
            <a:ext cx="13716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n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959360" y="2900520"/>
            <a:ext cx="18288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425840" y="3537000"/>
            <a:ext cx="18288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at/ 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416560" y="4146480"/>
            <a:ext cx="1378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rus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920880" y="4756320"/>
            <a:ext cx="13716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111640" y="5415120"/>
            <a:ext cx="9144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lat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7360" y="380880"/>
            <a:ext cx="7391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Arial"/>
              </a:rPr>
              <a:t>Complete the convers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4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4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4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609480" y="2279520"/>
            <a:ext cx="82296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结一些日常活动的英语表达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go to school, get up, get dress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询问你的朋友们的日常活动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 you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usually 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9459" descr="homework10"/>
          <p:cNvPicPr/>
          <p:nvPr/>
        </p:nvPicPr>
        <p:blipFill>
          <a:blip r:embed="rId2"/>
          <a:stretch/>
        </p:blipFill>
        <p:spPr>
          <a:xfrm>
            <a:off x="1752480" y="685800"/>
            <a:ext cx="5562720" cy="1695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457200" y="1382760"/>
            <a:ext cx="7238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eats breakfast at seven o’cloc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2144880"/>
            <a:ext cx="6019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does Scott go to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57200" y="429912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do your friends exerci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2906640"/>
            <a:ext cx="838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always goes to work at eleven o’clock. He’s never l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511668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usually exercise on week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38120" y="77328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ime does Rick eat break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8600" y="1231920"/>
            <a:ext cx="85345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看出，询问做某事的时间时，可以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疑问词来询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询问某人做某事的时间可以归纳为以下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 + does + ___________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短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19320" y="2057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a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62520" y="2101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4921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at time     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第三人称单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3020"/>
          <p:cNvSpPr txBox="1"/>
          <p:nvPr/>
        </p:nvSpPr>
        <p:spPr>
          <a:xfrm>
            <a:off x="3657600" y="3049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观察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4920" y="533520"/>
            <a:ext cx="86104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+ does + ________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短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+ do + __________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 短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+  do  + ______________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短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在答语中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lways,  usually, never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频率词等放在主语与谓语动词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2120" y="2101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at time 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非第三人称单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3549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非第三人称单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685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When    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第三人称单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椭圆 8197"/>
          <p:cNvSpPr/>
          <p:nvPr/>
        </p:nvSpPr>
        <p:spPr>
          <a:xfrm>
            <a:off x="609480" y="990720"/>
            <a:ext cx="68580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" y="2203560"/>
            <a:ext cx="82296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What time do you get up on school day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_______________________________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Rick always gets up at 6:20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What time do you have breakfas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________________________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609480" y="8380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198"/>
          <p:cNvSpPr/>
          <p:nvPr/>
        </p:nvSpPr>
        <p:spPr>
          <a:xfrm>
            <a:off x="1468080" y="647640"/>
            <a:ext cx="6531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Write answers or ques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Use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or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57200" y="1414440"/>
            <a:ext cx="83059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na never eats breakfas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time does your best friend go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问句中的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定用几人称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主语的数确定答语动作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 always/usually/never 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动词短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答语中的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定用几人称来询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答语的数确定问句中动作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time + do/does+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动词短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219"/>
          <p:cNvSpPr txBox="1"/>
          <p:nvPr/>
        </p:nvSpPr>
        <p:spPr>
          <a:xfrm>
            <a:off x="3276720" y="45720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指导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8600" y="1628640"/>
            <a:ext cx="87631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time do you get up on school d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_________________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ck always gets up at 6:2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time do you have breakfast?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762120" y="2362320"/>
            <a:ext cx="66294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I usually get up at seven o’cloc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85800" y="3079800"/>
            <a:ext cx="7391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hat time does Rick gets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5181480"/>
            <a:ext cx="80773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I usually have breakfast at eight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249"/>
          <p:cNvSpPr txBox="1"/>
          <p:nvPr/>
        </p:nvSpPr>
        <p:spPr>
          <a:xfrm>
            <a:off x="3048120" y="60948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Answers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08:47:03Z</dcterms:created>
  <dc:creator/>
  <dc:description/>
  <dc:language>en-US</dc:language>
  <cp:lastModifiedBy>Administrator</cp:lastModifiedBy>
  <dcterms:modified xsi:type="dcterms:W3CDTF">2018-03-07T11:33:36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Version">
    <vt:r8>1</vt:r8>
  </property>
</Properties>
</file>